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  <p:custShowLst>
    <p:custShow name="Chapter" id="0">
      <p:sldLst>
        <p:sld r:id="rId16"/>
        <p:sld r:id="rId17"/>
        <p:sld r:id="rId20"/>
        <p:sld r:id="rId21"/>
        <p:sld r:id="rId23"/>
        <p:sld r:id="rId24"/>
        <p:sld r:id="rId25"/>
        <p:sld r:id="rId28"/>
      </p:sldLst>
    </p:custShow>
    <p:custShow name="STP" id="1">
      <p:sldLst>
        <p:sld r:id="rId15"/>
        <p:sld r:id="rId18"/>
        <p:sld r:id="rId19"/>
        <p:sld r:id="rId22"/>
        <p:sld r:id="rId26"/>
        <p:sld r:id="rId27"/>
        <p:sld r:id="rId31"/>
        <p:sld r:id="rId32"/>
      </p:sldLst>
    </p:custShow>
    <p:custShow name="Transparencies" id="2">
      <p:sldLst>
        <p:sld r:id="rId29"/>
        <p:sld r:id="rId17"/>
      </p:sldLst>
    </p:custShow>
    <p:custShow name="Section 2" id="3">
      <p:sldLst>
        <p:sld r:id="rId16"/>
        <p:sld r:id="rId17"/>
        <p:sld r:id="rId20"/>
        <p:sld r:id="rId21"/>
        <p:sld r:id="rId23"/>
        <p:sld r:id="rId24"/>
        <p:sld r:id="rId25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267F-6F43-408E-B7C7-C2C0C6631EC4}" type="slidenum">
              <a:rPr b="0" lang="en-US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2-31 Degrees of satur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tty acids (and thus the fats that contain them) can be unsaturated or saturated; unsaturated fats can be saturated artificially, making them tastier but less healthfu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6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31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2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3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4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ideos.howstuffworks.com/hsw/5967-chemistry-of-life-carbohydrates-video.htm" TargetMode="External"/><Relationship Id="rId3" Type="http://schemas.openxmlformats.org/officeDocument/2006/relationships/hyperlink" Target="http://videos.howstuffworks.com/hsw/5967-chemistry-of-life-carbohydrates-video.htm" TargetMode="External"/><Relationship Id="rId4" Type="http://schemas.openxmlformats.org/officeDocument/2006/relationships/hyperlink" Target="http://www.youtube.com/watch?v=5GuQh5ARHDw" TargetMode="External"/><Relationship Id="rId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ideos.howstuffworks.com/hsw/5967-chemistry-of-life-carbohydrates-video.htm" TargetMode="External"/><Relationship Id="rId3" Type="http://schemas.openxmlformats.org/officeDocument/2006/relationships/hyperlink" Target="http://videos.howstuffworks.com/hsw/5967-chemistry-of-life-carbohydrates-video.htm" TargetMode="External"/><Relationship Id="rId4" Type="http://schemas.openxmlformats.org/officeDocument/2006/relationships/hyperlink" Target="http://www.youtube.com/watch?v=5GuQh5ARHDw" TargetMode="External"/><Relationship Id="rId5" Type="http://schemas.openxmlformats.org/officeDocument/2006/relationships/hyperlink" Target="http://www.youtube.com/watch?v=V4OPO6JQLOE" TargetMode="External"/><Relationship Id="rId6" Type="http://schemas.openxmlformats.org/officeDocument/2006/relationships/hyperlink" Target="http://www.youtube.com/watch?v=7k2KAfRsZ4Q" TargetMode="External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0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videos.howstuffworks.com/hsw/5967-chemistry-of-life-carbohydrates-video.htm" TargetMode="External"/><Relationship Id="rId3" Type="http://schemas.openxmlformats.org/officeDocument/2006/relationships/hyperlink" Target="http://videos.howstuffworks.com/hsw/5967-chemistry-of-life-carbohydrates-video.htm" TargetMode="External"/><Relationship Id="rId4" Type="http://schemas.openxmlformats.org/officeDocument/2006/relationships/hyperlink" Target="http://www.youtube.com/watch?v=5GuQh5ARHDw" TargetMode="External"/><Relationship Id="rId5" Type="http://schemas.openxmlformats.org/officeDocument/2006/relationships/hyperlink" Target="http://www.youtube.com/watch?v=V4OPO6JQLOE" TargetMode="External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onosaccharides, disaccharides, and polysaccharides.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onship between amino acids and protein structure.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duced fit model of enzym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ructure and function of each of the different types of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ucleic acids DNA and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711360" y="1828800"/>
            <a:ext cx="424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ospholip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ospholipid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make up plasma membranes, consist of ______ fatty acids and ______  glycerol  and a ________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up mm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"/>
          <p:cNvPicPr/>
          <p:nvPr/>
        </p:nvPicPr>
        <p:blipFill>
          <a:blip r:embed="rId2"/>
          <a:stretch/>
        </p:blipFill>
        <p:spPr>
          <a:xfrm>
            <a:off x="4807080" y="1828800"/>
            <a:ext cx="4336920" cy="32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x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made of one long fatty acid chain joined to one long alcoh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ero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eroi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composed of four fused carbon rings, regulate growt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"/>
          <p:cNvPicPr/>
          <p:nvPr/>
        </p:nvPicPr>
        <p:blipFill>
          <a:blip r:embed="rId2"/>
          <a:stretch/>
        </p:blipFill>
        <p:spPr>
          <a:xfrm>
            <a:off x="711360" y="457200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"/>
          <p:cNvPicPr/>
          <p:nvPr/>
        </p:nvPicPr>
        <p:blipFill>
          <a:blip r:embed="rId3"/>
          <a:stretch/>
        </p:blipFill>
        <p:spPr>
          <a:xfrm>
            <a:off x="4648320" y="4572000"/>
            <a:ext cx="367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figure_02_28_02"/>
          <p:cNvPicPr/>
          <p:nvPr/>
        </p:nvPicPr>
        <p:blipFill>
          <a:blip r:embed="rId1"/>
          <a:stretch/>
        </p:blipFill>
        <p:spPr>
          <a:xfrm>
            <a:off x="303120" y="428760"/>
            <a:ext cx="8535960" cy="59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onosaccharides, disaccharides, and polysaccharides.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onship between amino acids and protein structure.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duced fit model of enzyme action.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ructure and function of each of the different types of lipids.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ucleic acids DNA and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711360" y="1828800"/>
            <a:ext cx="8127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cleic ac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large and complex organic molecule that stores and transports genet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of: ______, _____, ______, and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mer is called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carbon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ogen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2"/>
          <a:stretch/>
        </p:blipFill>
        <p:spPr>
          <a:xfrm>
            <a:off x="5216400" y="3733920"/>
            <a:ext cx="3927600" cy="31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 of Nucleic Acid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1" descr="a28"/>
          <p:cNvPicPr/>
          <p:nvPr/>
        </p:nvPicPr>
        <p:blipFill>
          <a:blip r:embed="rId1"/>
          <a:stretch/>
        </p:blipFill>
        <p:spPr>
          <a:xfrm>
            <a:off x="723960" y="1981080"/>
            <a:ext cx="8007120" cy="33181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6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8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9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s of 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ic aci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oxyribonucleic acid (DNA)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s _________ information for cell activities.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ibonucleic acid (RNA)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es play many key roles in __________ of proteins and can act as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enosine triphosphate (ATP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s and releases _________ during cell processes, enabling organisms to fun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1600200" y="46080"/>
            <a:ext cx="6019920" cy="68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bon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nergy 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71136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enosine triphosphate (ATP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s and releases energy during cell processes, enabling organisms to function. This also an examples of a hydrolysis re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8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0">
            <a:hlinkClick r:id="rId2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1" descr="P0054"/>
          <p:cNvPicPr/>
          <p:nvPr/>
        </p:nvPicPr>
        <p:blipFill>
          <a:blip r:embed="rId3"/>
          <a:stretch/>
        </p:blipFill>
        <p:spPr>
          <a:xfrm>
            <a:off x="0" y="3578400"/>
            <a:ext cx="9144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onosaccharides, disaccharides, and polysaccharides.   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onship between amino acids and protein structure.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duced fit model of enzyme action.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ructure and function of each of the different types of lipids.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ucleic acids DNA and RNA.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nzymes are special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nzyme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are ____________ that ______ ____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emical reactions and bind to specific subst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inding of a substrate with an enzyme causes a change in the enzyme’s shape and reduces the activation energy of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io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3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Carbon Compound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Molecules of Lif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9" descr="a25"/>
          <p:cNvPicPr/>
          <p:nvPr/>
        </p:nvPicPr>
        <p:blipFill>
          <a:blip r:embed="rId2"/>
          <a:stretch/>
        </p:blipFill>
        <p:spPr>
          <a:xfrm>
            <a:off x="754200" y="1600200"/>
            <a:ext cx="7843680" cy="451008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4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5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6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7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figure_02_42"/>
          <p:cNvPicPr/>
          <p:nvPr/>
        </p:nvPicPr>
        <p:blipFill>
          <a:blip r:embed="rId1"/>
          <a:stretch/>
        </p:blipFill>
        <p:spPr>
          <a:xfrm>
            <a:off x="83808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monosaccharides, disaccharides, and polysaccharides.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onship between amino acids and protein structure.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duced fit model of enzyme action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tructure and function of each of the different types of lip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ucleic acids DNA and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pid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_________molecules that store energy and are an important part of ________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of : _______, _______, ________ and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mers are ___________ and 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711360" y="1676520"/>
            <a:ext cx="2793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tty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tty Ac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branched hydrocarbon molecules that have a hydrophilic end and a hydrophobic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n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"/>
          <p:cNvPicPr/>
          <p:nvPr/>
        </p:nvPicPr>
        <p:blipFill>
          <a:blip r:embed="rId2"/>
          <a:stretch/>
        </p:blipFill>
        <p:spPr>
          <a:xfrm>
            <a:off x="3624120" y="1905120"/>
            <a:ext cx="5062680" cy="33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figure_02_31"/>
          <p:cNvPicPr/>
          <p:nvPr/>
        </p:nvPicPr>
        <p:blipFill>
          <a:blip r:embed="rId1"/>
          <a:stretch/>
        </p:blipFill>
        <p:spPr>
          <a:xfrm>
            <a:off x="304920" y="216000"/>
            <a:ext cx="8531280" cy="64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ecule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123200" y="152280"/>
            <a:ext cx="18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iglyce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Triglyceride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 of ________fatty acids and one molecule of glycerol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or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2"/>
          <a:stretch/>
        </p:blipFill>
        <p:spPr>
          <a:xfrm>
            <a:off x="1676520" y="3164040"/>
            <a:ext cx="5410080" cy="36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1-02-09T12:58:17Z</dcterms:modified>
  <cp:revision>771</cp:revision>
  <dc:subject/>
  <dc:title>No Slide Title</dc:title>
</cp:coreProperties>
</file>